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8D5D3-F819-4723-B711-8A078B19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B9D1E-3768-48EC-96D3-E34E0AC9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EFA31-F0F1-4A22-8706-02BD8815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35750-78F8-4DD7-AC99-404ABE91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F56F-3056-4FC5-9655-02566183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65DC-F2E9-49D5-8756-2AE955E5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57A6-13B8-41A3-9CFF-EB296752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3947-A320-4DF3-AE70-3013F815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495C-1F4C-4FE9-8EE4-87414F2E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0F5D-A30D-4726-9DC3-56A9EA33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7D31-8F80-4F3B-85ED-E464E789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1C3D0-A9F9-4572-A1B1-C8580644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9A30-4B17-4E8B-A972-D52AEA7B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F85C-A45C-4125-A33D-6EB16482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88DC-F32B-40E0-A4C8-A8BDC5F7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48ED-DD75-40DA-A1BE-7B4328CE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3E93-40FA-45A9-A203-DAC34B4E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90E6F-92F0-4A41-AE80-338D5D8E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26C1D-3FB7-4C24-8A21-87EA7BDB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4041D-155A-4FF2-A535-F463C08C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069DC-FA0E-49FD-8566-AFB7EFE6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716E5-0C11-4B08-8A22-44E3F4C0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2AD7C-BB34-499D-8BFE-B4BF5570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A8770-129A-40B7-9BCD-EA11A802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AE2C-A69D-4F1E-B9EC-90E843F0057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441F-45D1-4465-86BA-370EEE5873F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576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9 (64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кала вечна е Исус за на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ебето що нам изпрат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нея градим весден и ч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ред бури и стихии.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Ние градим на скала,:]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радим на скал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тинска скал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 е таз скал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174888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пясък градят глупците сал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грях и на страст греховн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земни, суетни добрин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слава, чест световн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Ние градим на скала,:]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радим на скал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тинска скал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 е таз скал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75032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Ела и гради на таз Скал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я истинна е и вечн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дежда е и спасени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снова безупречн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144396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рипев: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Ние градим на скала,:]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градим на скал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тинска скал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сус е таз скал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17T08:11:22Z</dcterms:modified>
  <cp:revision>156</cp:revision>
  <dc:subject/>
  <dc:title>Slide 1</dc:title>
</cp:coreProperties>
</file>